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2C2F-C521-465E-A360-0515FF0C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1741-7A08-4619-94CB-22509FDD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261F-9D01-4A24-97EC-89183967B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4236-4DF8-422F-8560-9B0B2983F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EC76-D835-4FD3-B399-9A5D72BB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20ED-CCA5-47E1-B285-FD633EC1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BAA3-103E-4399-8420-BBCEB312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76CA-AB99-4ACB-97EE-81CE59FF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0F0D-D52E-47F1-8DFE-2A5B9989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994F-0058-4A34-9204-72A4D9D6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0395-7994-4EC3-BD17-AB7C1F85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93E8-5579-4FC5-AF05-15858E3B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4DEA-40C1-45BA-B4F9-E08600734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219320" y="1219320"/>
            <a:ext cx="693396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olution &amp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storic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erspectiv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52280" y="568440"/>
            <a:ext cx="861084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st measure of evolutionary relationship between two species can be estimated from their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 of time on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 of coope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simila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al simila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52280" y="568440"/>
            <a:ext cx="8610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, multicellular organisms were able to evolve primarily because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tmosphere chan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began to conde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with nuclei develop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vailability of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52280" y="568440"/>
            <a:ext cx="861084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natural selection, which is the best explanation of the evolution of the giraffe’s ne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raffes evolved long necks so they could eat the leaves of tall tr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cks of giraffes gradually got longer as they reached for the leaves of tall tr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raffes were designed to have long necks so they could reach the leaves of tall tr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raffes evolved long necks because those with longer necks were more likely to pass the gene to offsp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52280" y="568440"/>
            <a:ext cx="861084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the identification of genes help explain the theory of evolution by natural sele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s are segments of DNA on chromos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 that are “best fit” are more likely to surv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es change over time in response to their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erited traits are passed to offspring through g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52280" y="568440"/>
            <a:ext cx="8610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wo (2) sources of scientific evidence of evolu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380880" y="957240"/>
            <a:ext cx="861084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scribe two (2) of the main components of Darwin’s theory of natural selec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80880" y="957240"/>
            <a:ext cx="861084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mpare and contrast evolution and ecolog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04920" y="159696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cribe Lamarck’s hypothesis for how organisms change over time.  Then describe one piece of biological evidence that refutes his the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80880" y="942840"/>
            <a:ext cx="8610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scribe two of the adaptations birds have evolved that allow most of them to fl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80880" y="942840"/>
            <a:ext cx="8610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scribe two of the adaptations birds have evolved that allow most of them to fl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52280" y="568440"/>
            <a:ext cx="861084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vent of an environmental change, which of the following increases the likelyhood that a species will surv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 growth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inant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ol-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-76320" y="76320"/>
            <a:ext cx="8610840" cy="66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the table below, which species are most closely rel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nd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and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and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nd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143000"/>
          <a:ext cx="7010640" cy="2870280"/>
        </p:xfrm>
        <a:graphic>
          <a:graphicData uri="http://schemas.openxmlformats.org/drawingml/2006/table">
            <a:tbl>
              <a:tblPr/>
              <a:tblGrid>
                <a:gridCol w="3505320"/>
                <a:gridCol w="3505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difference in 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and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and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and 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and 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and 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52280" y="2743200"/>
            <a:ext cx="8610840" cy="41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carefully at the pictures of bird beaks above.  Choose the response that matches each beak with the most likely di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:nectar, 2:nuts &amp; seeds, 3:aquatic organisms, 4: me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:nectar, 2:meat, 3:nuts and seeds, 4: aquatic organism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:aquatic organisms, 2:nuts &amp; seeds, 3:nectar, 4:me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:aquatic organisms, 2:nuts &amp; seeds, 3:meat, 4:nect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21"/>
          <p:cNvGrpSpPr/>
          <p:nvPr/>
        </p:nvGrpSpPr>
        <p:grpSpPr>
          <a:xfrm>
            <a:off x="0" y="38160"/>
            <a:ext cx="8686800" cy="2476440"/>
            <a:chOff x="0" y="38160"/>
            <a:chExt cx="8686800" cy="2476440"/>
          </a:xfrm>
        </p:grpSpPr>
        <p:pic>
          <p:nvPicPr>
            <p:cNvPr id="50" name="Picture 9" descr="LO-mallard_duck_head-1283542"/>
            <p:cNvPicPr/>
            <p:nvPr/>
          </p:nvPicPr>
          <p:blipFill>
            <a:blip r:embed="rId1"/>
            <a:srcRect l="11010" t="15273" r="11928" b="38134"/>
            <a:stretch/>
          </p:blipFill>
          <p:spPr>
            <a:xfrm>
              <a:off x="6172200" y="304920"/>
              <a:ext cx="2514600" cy="13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1" descr="rwscott"/>
            <p:cNvPicPr/>
            <p:nvPr/>
          </p:nvPicPr>
          <p:blipFill>
            <a:blip r:embed="rId2"/>
            <a:srcRect l="41780" t="12502" r="3918" b="45834"/>
            <a:stretch/>
          </p:blipFill>
          <p:spPr>
            <a:xfrm>
              <a:off x="0" y="38160"/>
              <a:ext cx="198108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3" descr="blue-parrot-head"/>
            <p:cNvPicPr/>
            <p:nvPr/>
          </p:nvPicPr>
          <p:blipFill>
            <a:blip r:embed="rId3"/>
            <a:srcRect l="25669" t="13030" r="32334" b="20495"/>
            <a:stretch/>
          </p:blipFill>
          <p:spPr>
            <a:xfrm>
              <a:off x="4506840" y="152280"/>
              <a:ext cx="158904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5" descr="image"/>
            <p:cNvPicPr/>
            <p:nvPr/>
          </p:nvPicPr>
          <p:blipFill>
            <a:blip r:embed="rId4"/>
            <a:srcRect l="18186" t="0" r="0" b="30310"/>
            <a:stretch/>
          </p:blipFill>
          <p:spPr>
            <a:xfrm>
              <a:off x="2057400" y="38160"/>
              <a:ext cx="20574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WordArt 16"/>
            <p:cNvSpPr txBox="1"/>
            <p:nvPr/>
          </p:nvSpPr>
          <p:spPr>
            <a:xfrm>
              <a:off x="380880" y="1790640"/>
              <a:ext cx="304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5" name="WordArt 17"/>
            <p:cNvSpPr txBox="1"/>
            <p:nvPr/>
          </p:nvSpPr>
          <p:spPr>
            <a:xfrm>
              <a:off x="7543800" y="1790640"/>
              <a:ext cx="304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6" name="WordArt 18"/>
            <p:cNvSpPr txBox="1"/>
            <p:nvPr/>
          </p:nvSpPr>
          <p:spPr>
            <a:xfrm>
              <a:off x="5257800" y="1828800"/>
              <a:ext cx="304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7" name="WordArt 19"/>
            <p:cNvSpPr txBox="1"/>
            <p:nvPr/>
          </p:nvSpPr>
          <p:spPr>
            <a:xfrm>
              <a:off x="2362320" y="1866960"/>
              <a:ext cx="3045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52280" y="568440"/>
            <a:ext cx="861084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ubpopulations of a species of bird became isolated through geographic change a long time ago.  A scientist wonders if the 2 populations are still the same species.  Which question must the scientist answer to determine if the populations are still the same spec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ey look identical in every asp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ey have the same behavioral patter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they raise each other’s offspr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they mate to produce fertile offspr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52280" y="568440"/>
            <a:ext cx="861084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se ideas was part of Darwin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igin of Spe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which he presented a mechanism for evo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beings evolved from monke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netic code found in DNA is the same for almost all organis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biologically inherited characteristics can be passed on to offsp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that an individual acquires during its lifetime can be passed on to offsp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28600" y="568440"/>
            <a:ext cx="861048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ain three (3) of the main components of Darwin’s theory of evolution.  Include a description of the evidence used by Darw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ain three (3) of the main contributions of Gregor Mendel.  Briefly describe how Mendel developed his eviden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52280" y="1981080"/>
            <a:ext cx="861084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sts often compare the amino acid sequence found in the protein hemoglobin to infer the evolutionary relationships between organisms.  Based on the data above, which organisms are most closely rel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rilla and mon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mp and gor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key and 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mp and 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6320" y="609480"/>
          <a:ext cx="8915400" cy="1219320"/>
        </p:xfrm>
        <a:graphic>
          <a:graphicData uri="http://schemas.openxmlformats.org/drawingml/2006/table">
            <a:tbl>
              <a:tblPr/>
              <a:tblGrid>
                <a:gridCol w="685800"/>
                <a:gridCol w="457200"/>
                <a:gridCol w="457200"/>
                <a:gridCol w="380880"/>
                <a:gridCol w="457200"/>
                <a:gridCol w="457200"/>
                <a:gridCol w="380880"/>
                <a:gridCol w="457200"/>
                <a:gridCol w="457200"/>
                <a:gridCol w="381240"/>
                <a:gridCol w="457200"/>
                <a:gridCol w="380880"/>
                <a:gridCol w="385920"/>
                <a:gridCol w="444240"/>
                <a:gridCol w="446040"/>
                <a:gridCol w="446400"/>
                <a:gridCol w="444240"/>
                <a:gridCol w="447840"/>
                <a:gridCol w="444600"/>
                <a:gridCol w="4460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ril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m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ke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7" name="WordArt 179"/>
          <p:cNvSpPr txBox="1"/>
          <p:nvPr/>
        </p:nvSpPr>
        <p:spPr>
          <a:xfrm>
            <a:off x="380880" y="76320"/>
            <a:ext cx="7772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Hemoglobin Amino Acid Sequen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52280" y="568440"/>
            <a:ext cx="861084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pulation of snakes lives on a large island that becomes two separate islands when the sea level rises.  What would you expect to happen after a very long period of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tion will incr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tion will occ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breeding will contin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selection will st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14:59:20Z</dcterms:created>
  <dc:creator>Kary M. Kahle</dc:creator>
  <dc:description/>
  <dc:language>en-US</dc:language>
  <cp:lastModifiedBy>Tracey Hayden</cp:lastModifiedBy>
  <dcterms:modified xsi:type="dcterms:W3CDTF">2009-04-19T16:11:25Z</dcterms:modified>
  <cp:revision>25</cp:revision>
  <dc:subject/>
  <dc:title>Slide 1</dc:title>
</cp:coreProperties>
</file>